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E2FB-9343-4B1C-81F7-86351B5A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3EB5-418E-4FF9-839B-FE9F468D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E4BE-42F3-421F-ADCF-50A81DD8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7A47-B1CD-48E0-A83C-DACD1CB0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089C-6847-4458-B3D0-85BB5567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77BF-30F9-4B32-88DE-4EC8130A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54A9-9797-42C5-B06C-F3DC3252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B349-A343-46DE-A782-F5B6B48C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02E6-1AD5-4A57-84C9-70B02DF5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0B0F-1A3E-4E2D-B939-76A0A632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C1C7-4CEE-469A-8373-7C9D41C7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274A-244E-42DF-8A82-17885316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FA54-FD4C-436E-BD3D-B001DA60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4A61-CA38-45D3-8851-FF1401FA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306C-325D-4E77-9241-9C86ED94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98F2-2B47-4CA2-B639-C523E2DA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EE88-5F13-4B73-A11D-EBBC355D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8091C-A77C-4BF7-8429-F8623DF4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26939-584F-480D-B60F-6F0576A3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900D7-701C-4FA5-96EE-0090CFF9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722C7-B0FD-444D-AD35-AC280F80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2EFCD-5CDE-4DE2-8A19-B7DE3F6D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A11A-2400-4C28-8555-0B1BAAF3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ED9B0-D488-49CC-B6CA-3DA19C5A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89E97-B663-49F4-B851-4943FC29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5EF6D-DF7A-4ABD-8965-160D5328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C30F3-CDF5-4078-B308-3AFB3C4E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BA773-4CBE-4F8F-B35D-85736862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DF66F-661F-4A7F-B0E2-6F750BA9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18AE1-A02B-4344-9A0C-C4D02803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8D8E5-3F4A-4507-8FA8-A6D5102C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A5F4B-8B68-42C0-8011-9770942C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4798E-5721-47DD-8F58-DF4D3C3E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364F-F657-49BA-9979-ACCF78BA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D389A-5A39-4E14-969B-FA294047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D327D-2445-4E2C-B132-7AFE40AD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49BD1-0BD6-48B4-A14F-3C695F01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B4B7F-C3D1-4F49-8A73-65D1A9F2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FF209-1663-405C-8BC0-683C7B53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3B422-E580-4E98-9AE2-FF3AAB80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AA67F-F345-4BE9-BD4D-F93412D5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B4BBE-3EFA-465C-BF42-62DEE972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9718A-27BB-4FBB-8B4E-4152E816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4F4CC-097A-4050-92B5-CBC75E52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B21A-1A06-4BB5-BB7C-5256B378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93FDA-39C9-4ECD-B705-BCD0DA63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11159-EE84-431F-B1AC-6A22D27F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FE794-57C6-44A5-9067-4B828253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88DE8-BA1F-4389-BB44-19D920C0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1DC6B-958C-4479-B234-E83430A0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4B73C-96A4-48E9-AB2E-F051DF67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BD8E4-402A-43BA-A97F-7781FA55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7E067-EE49-404D-8F55-68D9FA09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01C94-35EE-4209-90A0-4543E366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C41FF-ADED-4D04-BB96-CBD413F1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A423-EB58-4576-8DFE-F84BA323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505F5-F5BA-4790-A914-8ED32E1B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11F98-2C13-4228-82E6-432F67F8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ECC4F-53E5-4851-9FF8-CD5014E5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F1992-C59C-4FD7-9990-2CA4523F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ADBF2-285E-49F4-AD8C-0BE55E11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4E41C-F9C7-4446-8FEC-BDCFBDFF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C061D-59A5-4BF0-BE29-F879A99E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5BF97-FEFB-4033-BD88-15C73E61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F2DDA-D044-4E05-860D-4E00C4EA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82CE7-7FD4-43E2-93DD-5DAD621D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5617-7BB2-49A4-85C9-DB7C2701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203C7-79AB-4339-A35B-3F049BEC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B3972-23AA-4E93-BDF0-46DFB509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6C5D6-C3B0-416C-8B5F-1D3CF869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B0062-E8B2-4C3E-A32A-45DC79FA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AD92D-7128-4CEF-B370-EE0B8EDA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1BA1E-14A8-4723-8C3F-5820C35A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1B4DE-F939-45FD-8ADF-D57C0D59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D6671-9D1E-4250-9AC7-50DC7107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41254-1F8E-431A-AB24-1AD76A2C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FBAE9-738D-4A39-B1B8-36E4453A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9DFD-2B72-4CF6-AD50-3E9FE934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4B06D-AB0C-4928-AE47-D939E001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6A0E2-2FBD-4DC9-807F-A97DBF8A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59EDF-0293-45B0-AA85-F5ED329D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5A382-C574-4470-9F9F-7A70E00D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EC4AE-FB57-47FD-BE5B-00EE2D11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C0E0-E3F9-48F5-B57B-EE6233A1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B575-99B8-4AF0-AEDF-8AEF7239790F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E736-15DB-4A5A-94A1-EDB2C07F8048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9AF9-71A5-4BF6-A99A-28AE5F33FD12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8BFC-267C-438B-9325-A9C940282C47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D63C-4424-4110-9188-62CAD63C8911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B862-7E9E-4442-930C-618053EE1712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B19A-3E84-4F34-AF91-7D3496A17A1B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600" spc="-1" strike="noStrike">
                <a:solidFill>
                  <a:srgbClr val="ffffff"/>
                </a:solidFill>
                <a:latin typeface="Candara"/>
              </a:rPr>
              <a:t>Historia PRALKI </a:t>
            </a:r>
            <a:endParaRPr b="0" lang="en-US" sz="9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971640" y="1988640"/>
            <a:ext cx="7308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Kijanka do prania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- narzędzie używane do prania, zazwyczaj w otwartych wodach (w rzece lub jeziorze) w postaci kija lub krótkiej deszczułki (albo drewnianej łopatki). Pranie polega na wielokrotnym uderzaniu obficie zmoczonej wodą sztuki odzieży kijanką i stałym spłukiwaniu jej wodą. Cząsteczki brudu wybijane są mechanicznie spomiędzy włókien tkaniny, a następnie wypłukiwane. Niekiedy podczas prania dodawano niewielkie ilości mazi otrzymywanej przez prażenie mieszanki popiołu roślinnego i łoju - poprzedników mydł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Candara"/>
              </a:rPr>
              <a:t>Kijanka do prani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971640" y="1916280"/>
            <a:ext cx="7308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Tara </a:t>
            </a: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(</a:t>
            </a: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tarka)</a:t>
            </a: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 - narzędzie wykorzystywane do prania odzieży; konstrukcja w postaci blachy falistej (lub innej sfałdowanej powierzchni - np. szklanej albo plastikowej), zwykle umocowanej w drewnianej lub metalowej ramie. Tara była zazwyczaj umieszczona w balii, osoba piorąca ręcznie przesuwała (tarła) namaczaną bieliznę po powierzchni tary. Tara praktycznie wyszła z użycia po pojawieniu się pralki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Falista powierzchnia tary pocierana ręką lub jakimś przedmiotem wydaje charakterystyczny odgłos, co wykorzystywane jest przez niektóre zespoły muzyczne (najczęściej wykonujące muzykę country) do wzbogacenia brzmienia wykonywanych utworów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Candara"/>
              </a:rPr>
              <a:t>Tar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133360"/>
            <a:ext cx="7732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Pierwszą pralkę zbudował Amerykanin James King w 1851 r. Jej działanie opierało się na wykorzystaniu pary, a zasada działania tej pralki znacznie odbiegała od naśladowania ręcznych czynności. Pralki napędzane elektrycznie zaczęto konstruować w 1899. Jedną z pierwszych była pralka z bębnem z emaliowanego drewna, która została zbudowana w 1907 roku przez Alvę Fishera. Przez kilka następnych lat ta pralka była udoskonalana poprzez poziome lub pionowe ustawienie bębna, zmianę szybkości obrotów, itp. W Polsce przez wiele lat popularna była pralka Frania. Z czasem pralki półautomatyczne zostały wyparte przez automatyczne. Pralka z 1934 roku sama utrzymywała stałą temperaturę wody, dozowała proszek i płukała. W 1937 roku w USA zbudowano pierwszą programowaną pralkę automatyczną – wykonującą takie czynności jak: pranie, płukanie, odwirowanie oraz czasowe zaprogramowanie czynności, ustawienia temperatury wody czy szybkości obrotów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Candara"/>
              </a:rPr>
              <a:t>Pralka automatyczn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07640" y="1628280"/>
            <a:ext cx="87850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            </a:t>
            </a:r>
            <a:r>
              <a:rPr b="1" lang="pl-PL" sz="2800" spc="-1" strike="noStrike">
                <a:solidFill>
                  <a:srgbClr val="073e87"/>
                </a:solidFill>
                <a:latin typeface="Candara"/>
              </a:rPr>
              <a:t>TARA                    KIJANKA         Pralka </a:t>
            </a:r>
            <a:r>
              <a:rPr b="1" lang="pl-PL" sz="2600" spc="-1" strike="noStrike">
                <a:solidFill>
                  <a:srgbClr val="073e87"/>
                </a:solidFill>
                <a:latin typeface="Candara"/>
              </a:rPr>
              <a:t>automatyczna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GALERIA ZDJĘĆ PRA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611280" y="2247840"/>
            <a:ext cx="2415960" cy="30974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"/>
          <p:cNvPicPr/>
          <p:nvPr/>
        </p:nvPicPr>
        <p:blipFill>
          <a:blip r:embed="rId2"/>
          <a:stretch/>
        </p:blipFill>
        <p:spPr>
          <a:xfrm>
            <a:off x="3276720" y="2224080"/>
            <a:ext cx="2447640" cy="3097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"/>
          <p:cNvPicPr/>
          <p:nvPr/>
        </p:nvPicPr>
        <p:blipFill>
          <a:blip r:embed="rId3"/>
          <a:stretch/>
        </p:blipFill>
        <p:spPr>
          <a:xfrm>
            <a:off x="5940360" y="2205000"/>
            <a:ext cx="280836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4T15:04:30Z</dcterms:created>
  <dc:creator>Dorota</dc:creator>
  <dc:description/>
  <dc:language>en-US</dc:language>
  <cp:lastModifiedBy>Dorota</cp:lastModifiedBy>
  <dcterms:modified xsi:type="dcterms:W3CDTF">2013-08-19T08:45:41Z</dcterms:modified>
  <cp:revision>12</cp:revision>
  <dc:subject/>
  <dc:title>HISTORIA PRALKI</dc:title>
</cp:coreProperties>
</file>